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F6AD0-F2E1-44A6-BDFD-D21B1C200C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D1E7E-8825-4C08-958A-214A9C9AB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C68D4-356A-40D4-BFBD-BD598467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F7AAF-C987-4C5A-8B40-EF273B9BAD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C2D05-33F9-4691-A498-DC219E9D7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EAD1A-F0AF-45A9-9C53-235D7A0E6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5F7A5-2B84-47DD-852C-10D31A29E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B00C5-B949-46DE-8FF4-F42F3E315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5A016-E1E2-458B-B310-13FED02E9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D65FF-A79D-49C7-A922-1DFDE0DBD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CB2B3-8235-4597-83AA-1B764DF08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87452-2C01-439A-B7C0-1E6A43430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32CDC7F-2923-468A-AA50-DF84F93B47BF}" type="slidenum">
              <a:rPr b="0" lang="fr-F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54720" y="1584360"/>
            <a:ext cx="676080" cy="3682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Forê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2559240" y="2938320"/>
            <a:ext cx="843840" cy="3682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5175360" y="2975040"/>
            <a:ext cx="793440" cy="3682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ut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7125840" y="2975040"/>
            <a:ext cx="1265760" cy="3682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uvegar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3802680" y="4294080"/>
            <a:ext cx="785880" cy="3682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x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056200" y="4511520"/>
            <a:ext cx="976320" cy="3682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able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6474960" y="4290840"/>
            <a:ext cx="775080" cy="3682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eA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940120" y="2001960"/>
            <a:ext cx="1968480" cy="936360"/>
          </a:xfrm>
          <a:prstGeom prst="line">
            <a:avLst/>
          </a:prstGeom>
          <a:ln cap="sq"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4906800" y="2001960"/>
            <a:ext cx="644760" cy="973080"/>
          </a:xfrm>
          <a:prstGeom prst="line">
            <a:avLst/>
          </a:prstGeom>
          <a:ln cap="sq"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4906800" y="2001960"/>
            <a:ext cx="2778120" cy="973080"/>
          </a:xfrm>
          <a:prstGeom prst="line">
            <a:avLst/>
          </a:prstGeom>
          <a:ln cap="sq"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4144680" y="3344760"/>
            <a:ext cx="1407960" cy="949320"/>
          </a:xfrm>
          <a:prstGeom prst="line">
            <a:avLst/>
          </a:prstGeom>
          <a:ln cap="sq"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5541480" y="3344760"/>
            <a:ext cx="11160" cy="1166760"/>
          </a:xfrm>
          <a:prstGeom prst="line">
            <a:avLst/>
          </a:prstGeom>
          <a:ln cap="sq"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5551560" y="3344760"/>
            <a:ext cx="1266840" cy="946080"/>
          </a:xfrm>
          <a:prstGeom prst="line">
            <a:avLst/>
          </a:prstGeom>
          <a:ln cap="sq"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30T19:45:39Z</dcterms:created>
  <dc:creator>GR</dc:creator>
  <dc:description/>
  <dc:language>en-US</dc:language>
  <cp:lastModifiedBy/>
  <dcterms:modified xsi:type="dcterms:W3CDTF">2020-01-17T22:15:28Z</dcterms:modified>
  <cp:revision>7</cp:revision>
  <dc:subject/>
  <dc:title>Présentation PowerPoint</dc:title>
</cp:coreProperties>
</file>